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A433-CA20-4B38-8865-82FAF10EC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0A81-C98B-4D36-9461-AB4A69AAE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E287-5A8F-417C-AD4B-DD0D08B77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7092-7268-409F-AFDB-F73E8298E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ADF7-9F5A-4D94-BD0C-042FC59A5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2EF7-D920-48EF-A4DF-92B0BA533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3214-42B6-471A-B789-E828221E9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0A67-02C3-479A-8598-503387F29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B4FB-3737-4C72-81AA-DBA5D064B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E317-22E4-4F7D-9782-BB89957F0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E4BA80-3429-440B-AEC4-79E1B8663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CE62C2-D92F-495E-96FE-D0D5C90EFD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410BE-C750-480D-8788-62002C0674D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4B516-8B03-481E-B49F-71876E5E5F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107903-B4B8-489E-8B77-144A5F6AA5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7880F-7360-4B50-80AF-0B0ACB501D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12CD7-98BC-460D-85BD-FD696C67FC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8CAD9-5B40-4459-BBC0-9CD36D896B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4550C-9E6B-4AB7-ACA1-FA0974F251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07AB32-7EAF-498A-85AF-4A0476B4DC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015B7C-22E7-4B64-9EC0-605B065A96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C0EDD36-F61B-44B9-860D-747818D368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D335E2-543B-477F-8363-BDAB9FE15F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3D6D83B-83D5-4F09-9EE7-DBFD4A9796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5E12F5-1F56-4E4C-ABD3-112077ACC5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D60CB5-ECFD-497D-A3F3-9B28F148A5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13B51B3-65E3-4A01-8BBE-7910564C56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3297945-2260-49CC-916A-E31248BBAA7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97E389-3ED2-4D63-A4B0-55F64DEE6E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AB7DA5D-33A9-46B1-A04D-8985EFAE34D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A00C3C-C70A-414F-A4C0-65BE3D2149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99E978-225F-4D54-88C5-7F275005B2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FA6650E-58C0-4B65-8BA3-7D47ACA65C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61CDFF-AB38-4D71-AF19-1C7E6F400F4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2041E00-7776-4B66-8698-406B3E9EE8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9E9BFB7-93A6-4A2B-893D-987B8BAF4C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404D987-7775-45F8-8099-2DA67C7D63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74F5166-65AC-48F0-88D3-D27B4C4B4A0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0FF4316-E362-4946-AF71-8B72D97D4E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80D6C94-813F-4ACD-8CFF-47142EDA60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9054745-586C-4C75-AF81-EAC165DDB0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818E4F-E179-4D40-A77B-B05EB802041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0A1EB3-A0B9-4A16-AB46-99B393AB68B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69BA05-A80A-4D1D-A3C0-6170EF0565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5D73E6-F95B-4509-978A-16CC65FBBE5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E957D3A-E8BD-4710-9ABF-1B237748F8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96F9714-3EFB-4DEE-BA79-8455DB26516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31B19DD-572E-41CA-B7DA-B6C3E4CCCEF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326F79-40CA-42F3-B082-9D946979F3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52F83-EA80-4C9E-9E87-13F46018FEC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98ED0F-E7FD-4405-B8EA-B57E1E0FCC6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770469-F6E9-4838-9D7F-7F0CBF20D9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AFE49E-2CFE-4B5A-AF54-6C13E508CD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3EE20-25D3-4A7E-AF05-65700772FAC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55CFFF-117F-49C3-9AE2-7DC73171C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8BB102-EEAB-4BE4-BCFE-60C64BD7BCC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7B00C3-FF31-4C0B-9B9D-6AEEAAAD1A3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139C0-2573-46EF-A333-616D03D245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886C06-CE8D-4EEC-82D8-43D146AF49F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EAFE06-A9E4-4CB8-9F69-D0BF31F3F0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CF9E8C-EABC-48CD-A8E7-0DBF7AD8D6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41306E-A124-4F4A-96C0-4E0FB94876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7052B8-2B56-49CD-AABF-54E0C685B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E3CE24-B0DF-44B5-9B0F-D9E7D6F7E9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7E7E18-18E4-4E31-BBB4-338F8A7ABE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E6B3A7-1F4F-4D7B-A14F-EE340C7EF9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7AEAC0-DF43-4FB2-927A-B9278A123F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81DA9E-19D3-4914-8747-3CFD520B5F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C3A62C-5139-4EDB-A3A3-CE1EC94F63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479248-24EC-4CC5-A2E9-93257773BD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3ED36E-726D-4169-8739-018A3C3262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FEA939-7418-48CF-9DFC-DDBF876D47C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1CF7A-0343-40FD-8759-DD3D17AB10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4E26C-6C0E-44BE-AF22-FC1447A4A1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DE0E5-730A-4347-B404-359D0699AD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D62C6-277E-4F5B-9C7F-1BD006DAE4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FBAC9-0D2B-44DD-ACC5-8332C4FEF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7AEB59-5701-4952-9EF8-0DB701879E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B91F2-5CF5-419D-BAFC-91218BAEF1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170E6-B095-45E2-9EE6-531EC3AD10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D3275-5C92-4BB5-BFF4-68EF528C4D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E182-30BA-49D5-B7CF-795C8AC27E4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3C853-DECC-4487-B473-014D53AF74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F9546-63A0-4B15-B6D3-055403F1EC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DDC5E-10F4-4810-866F-68BC439AB1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2D6D28-14A2-46BE-98E5-CDBA5CC716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E832A4-8BD6-46EA-ACD4-1A8B6ECD57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F42689-7F66-4EF1-A195-F569199F3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28829E-BC63-4B1A-88A6-0AA9EDB709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236397-6067-491C-82AC-7D0CD9C46E0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74C2DE-7317-4290-886C-E1A37C0A13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32E58E-F9A1-4E0F-86F7-DDD1632E65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7DA7C1-314B-479F-8533-A0508BFC46C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46D28F-611F-4DB3-AAF4-7A416FD767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E01989-9DBF-4CC3-826D-67BBF6CA805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0BC268-EB44-4319-B05B-27C6547D57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ECFB216-57B9-4923-B823-72EC63D0BA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33C205-3167-4387-98CA-E475F7F6E6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20DD64F-C2C6-48FD-B235-C6D95260B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4B816B-AE9E-425E-AA1E-6C0C69CED7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5F0AD2-7C2F-461D-BB8F-C06CEE93C0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0F0ADDA-5AE6-4F6E-8245-FCC3F8AC79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555EDC-ACC9-48AC-9ADC-8DE3ED32D6F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60BE519-6DDA-44FB-B15C-4EF4988883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465B976-4F96-4649-836F-B44ADBC621A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393C5BA-2CF9-4CCD-8907-B1FC8B72794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F85644-2785-4E7A-80FD-43C7DB67ADD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42E4FA-3555-453F-A7B6-B36320674A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83E695-BF8B-4825-B9EF-189A005E21E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A326D3D-224A-4905-AC1B-4CB1AF107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299EE-03D2-4072-B79B-62E5E3D447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0876738-B9E6-40AA-9164-895021BD42B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823579-3D71-4AF0-BC7F-D5268CAE08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8F27F-E0CE-49D0-815D-F077032D66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2557F-C929-45AC-AFAB-D3F4CE3C64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EB289-5042-4094-85C5-AD34FFCF78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CE724-EA7A-48BD-A344-4948D43FC5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3D05C-797C-479C-AC3B-7139B5E88B9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81C6E-CC15-4EEE-A8B4-7567C587685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5F171-C5DE-4385-B279-336BF064EC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7951A-B570-4FFD-9A0D-5139948F0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9A621D-37DD-4E3C-827F-8CB1714F11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EA038-8E03-47E9-A862-0642B6DBBE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06776-6841-4EAF-A5BF-810E102675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FE180C-2CBE-4373-A4AD-42D64476677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70D0598-F271-4F82-A5C3-28C21C81E0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99F30B-AC98-4AB9-8509-7E7CE4755E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35BADC-E732-417E-A101-A0D5798921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EDCC67-AAF4-43F6-9E15-D0AA19F362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C906B1-BD09-4DBC-9D63-B3964117073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A9DD7F-DF4F-4A45-9562-BCA8C34BF70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ED7ECD-217A-482D-AC79-A9A57DD767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6F2912-C910-425D-B577-ABDE398D81C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76D925-02AF-495F-B248-848A56FE6C6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C390FC-C1CE-4C38-AA5B-39E0A085E0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8D63CA-55BD-425B-8D2D-0BF418CB12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7E42DDD-3BDF-495C-AAA9-9EE535F456F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D8702F-AE5C-4F5C-80D8-B0C4003465E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77CFA7E-2B83-4C3A-A151-0F75BF5ED0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3A895A1-6EAA-45C5-9E04-C12C291B647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8F2F6B-673C-4C52-9C26-37A234718B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2D5429F-E65D-4252-953A-658CE71082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CE338BF-F795-4641-9F8D-91F96BEF6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DB96D2-D7F8-4995-8B47-5A1A583A45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76E3EC-0B9B-42D1-B329-E95C35ADFA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965D54-631A-47A5-B71E-6A94988FE8F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013E06B-1629-4EC5-AF42-DA2B2B4BCE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80688F2-5B44-4442-9488-0446A724C6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35A4E43-64F5-423D-B5AA-C512595834F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9B0FB6E-46FF-470C-9886-4995D2AE423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F665526-6519-4A1C-AA3F-C735222399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47B950-594F-4D37-804D-C04734BE6D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F1807-6703-472B-978F-BB56B84116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9122B-B34E-4BB0-99CB-045FC8E9C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DC9EB244-DEA4-4992-A409-46CC47C9CB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3" name="Picture 14" descr="c14l01_header"/>
          <p:cNvPicPr/>
          <p:nvPr/>
        </p:nvPicPr>
        <p:blipFill>
          <a:blip r:embed="rId2"/>
          <a:stretch/>
        </p:blipFill>
        <p:spPr>
          <a:xfrm>
            <a:off x="0" y="0"/>
            <a:ext cx="9144000" cy="13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4" descr="c14l01_header"/>
          <p:cNvPicPr/>
          <p:nvPr/>
        </p:nvPicPr>
        <p:blipFill>
          <a:blip r:embed="rId2"/>
          <a:stretch/>
        </p:blipFill>
        <p:spPr>
          <a:xfrm>
            <a:off x="0" y="0"/>
            <a:ext cx="9144000" cy="1387440"/>
          </a:xfrm>
          <a:prstGeom prst="rect">
            <a:avLst/>
          </a:prstGeom>
          <a:ln w="0">
            <a:noFill/>
          </a:ln>
        </p:spPr>
      </p:pic>
      <p:sp>
        <p:nvSpPr>
          <p:cNvPr id="36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3" name="PlaceHolder 2"/>
          <p:cNvSpPr>
            <a:spLocks noGrp="1"/>
          </p:cNvSpPr>
          <p:nvPr>
            <p:ph type="ftr" idx="19"/>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364" name="PlaceHolder 3"/>
          <p:cNvSpPr>
            <a:spLocks noGrp="1"/>
          </p:cNvSpPr>
          <p:nvPr>
            <p:ph type="sldNum" idx="20"/>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9ED31CF2-CD90-4000-A139-5D0052EC63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14" descr="c14l01_header"/>
          <p:cNvPicPr/>
          <p:nvPr/>
        </p:nvPicPr>
        <p:blipFill>
          <a:blip r:embed="rId2"/>
          <a:stretch/>
        </p:blipFill>
        <p:spPr>
          <a:xfrm>
            <a:off x="0" y="0"/>
            <a:ext cx="9144000" cy="1387440"/>
          </a:xfrm>
          <a:prstGeom prst="rect">
            <a:avLst/>
          </a:prstGeom>
          <a:ln w="0">
            <a:noFill/>
          </a:ln>
        </p:spPr>
      </p:pic>
      <p:sp>
        <p:nvSpPr>
          <p:cNvPr id="40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3" name="PlaceHolder 2"/>
          <p:cNvSpPr>
            <a:spLocks noGrp="1"/>
          </p:cNvSpPr>
          <p:nvPr>
            <p:ph type="ftr" idx="21"/>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404" name="PlaceHolder 3"/>
          <p:cNvSpPr>
            <a:spLocks noGrp="1"/>
          </p:cNvSpPr>
          <p:nvPr>
            <p:ph type="sldNum" idx="22"/>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079DB53B-BBB2-4D6F-825B-3979023691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4" descr="c14l01_header"/>
          <p:cNvPicPr/>
          <p:nvPr/>
        </p:nvPicPr>
        <p:blipFill>
          <a:blip r:embed="rId2"/>
          <a:stretch/>
        </p:blipFill>
        <p:spPr>
          <a:xfrm>
            <a:off x="0" y="0"/>
            <a:ext cx="9144000" cy="1387440"/>
          </a:xfrm>
          <a:prstGeom prst="rect">
            <a:avLst/>
          </a:prstGeom>
          <a:ln w="0">
            <a:noFill/>
          </a:ln>
        </p:spPr>
      </p:pic>
      <p:sp>
        <p:nvSpPr>
          <p:cNvPr id="44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3" name="PlaceHolder 2"/>
          <p:cNvSpPr>
            <a:spLocks noGrp="1"/>
          </p:cNvSpPr>
          <p:nvPr>
            <p:ph type="ftr" idx="23"/>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444" name="PlaceHolder 3"/>
          <p:cNvSpPr>
            <a:spLocks noGrp="1"/>
          </p:cNvSpPr>
          <p:nvPr>
            <p:ph type="sldNum" idx="24"/>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FCB4CB35-8B75-4041-AB5B-B0258F6E6E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c14l01_header"/>
          <p:cNvPicPr/>
          <p:nvPr/>
        </p:nvPicPr>
        <p:blipFill>
          <a:blip r:embed="rId2"/>
          <a:stretch/>
        </p:blipFill>
        <p:spPr>
          <a:xfrm>
            <a:off x="0" y="0"/>
            <a:ext cx="9144000" cy="1387440"/>
          </a:xfrm>
          <a:prstGeom prst="rect">
            <a:avLst/>
          </a:prstGeom>
          <a:ln w="0">
            <a:noFill/>
          </a:ln>
        </p:spPr>
      </p:pic>
      <p:sp>
        <p:nvSpPr>
          <p:cNvPr id="41"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PlaceHolder 2"/>
          <p:cNvSpPr>
            <a:spLocks noGrp="1"/>
          </p:cNvSpPr>
          <p:nvPr>
            <p:ph type="ftr" idx="3"/>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43" name="PlaceHolder 3"/>
          <p:cNvSpPr>
            <a:spLocks noGrp="1"/>
          </p:cNvSpPr>
          <p:nvPr>
            <p:ph type="sldNum" idx="4"/>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7A9C1D0F-4780-4469-B506-48F750FD61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4" descr="c14l01_header"/>
          <p:cNvPicPr/>
          <p:nvPr/>
        </p:nvPicPr>
        <p:blipFill>
          <a:blip r:embed="rId2"/>
          <a:stretch/>
        </p:blipFill>
        <p:spPr>
          <a:xfrm>
            <a:off x="0" y="0"/>
            <a:ext cx="9144000" cy="1387440"/>
          </a:xfrm>
          <a:prstGeom prst="rect">
            <a:avLst/>
          </a:prstGeom>
          <a:ln w="0">
            <a:noFill/>
          </a:ln>
        </p:spPr>
      </p:pic>
      <p:sp>
        <p:nvSpPr>
          <p:cNvPr id="81"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2"/>
          <p:cNvSpPr>
            <a:spLocks noGrp="1"/>
          </p:cNvSpPr>
          <p:nvPr>
            <p:ph type="ftr" idx="5"/>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83" name="PlaceHolder 3"/>
          <p:cNvSpPr>
            <a:spLocks noGrp="1"/>
          </p:cNvSpPr>
          <p:nvPr>
            <p:ph type="sldNum" idx="6"/>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53B483F2-53E8-4CBD-9C0D-1EED66E406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4" descr="c14l01_header"/>
          <p:cNvPicPr/>
          <p:nvPr/>
        </p:nvPicPr>
        <p:blipFill>
          <a:blip r:embed="rId2"/>
          <a:stretch/>
        </p:blipFill>
        <p:spPr>
          <a:xfrm>
            <a:off x="0" y="0"/>
            <a:ext cx="9144000" cy="1387440"/>
          </a:xfrm>
          <a:prstGeom prst="rect">
            <a:avLst/>
          </a:prstGeom>
          <a:ln w="0">
            <a:noFill/>
          </a:ln>
        </p:spPr>
      </p:pic>
      <p:sp>
        <p:nvSpPr>
          <p:cNvPr id="12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2"/>
          <p:cNvSpPr>
            <a:spLocks noGrp="1"/>
          </p:cNvSpPr>
          <p:nvPr>
            <p:ph type="ftr" idx="7"/>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124" name="PlaceHolder 3"/>
          <p:cNvSpPr>
            <a:spLocks noGrp="1"/>
          </p:cNvSpPr>
          <p:nvPr>
            <p:ph type="sldNum" idx="8"/>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8A21DD3F-6464-487F-AF08-0957D29AA2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4" descr="c14l01_header"/>
          <p:cNvPicPr/>
          <p:nvPr/>
        </p:nvPicPr>
        <p:blipFill>
          <a:blip r:embed="rId2"/>
          <a:stretch/>
        </p:blipFill>
        <p:spPr>
          <a:xfrm>
            <a:off x="0" y="0"/>
            <a:ext cx="9144000" cy="1387440"/>
          </a:xfrm>
          <a:prstGeom prst="rect">
            <a:avLst/>
          </a:prstGeom>
          <a:ln w="0">
            <a:noFill/>
          </a:ln>
        </p:spPr>
      </p:pic>
      <p:sp>
        <p:nvSpPr>
          <p:cNvPr id="16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2"/>
          <p:cNvSpPr>
            <a:spLocks noGrp="1"/>
          </p:cNvSpPr>
          <p:nvPr>
            <p:ph type="ftr" idx="9"/>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164" name="PlaceHolder 3"/>
          <p:cNvSpPr>
            <a:spLocks noGrp="1"/>
          </p:cNvSpPr>
          <p:nvPr>
            <p:ph type="sldNum" idx="10"/>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A620E10A-8029-45CA-AA91-A4E5DD8A16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4" descr="c14l01_header"/>
          <p:cNvPicPr/>
          <p:nvPr/>
        </p:nvPicPr>
        <p:blipFill>
          <a:blip r:embed="rId2"/>
          <a:stretch/>
        </p:blipFill>
        <p:spPr>
          <a:xfrm>
            <a:off x="0" y="0"/>
            <a:ext cx="9144000" cy="1387440"/>
          </a:xfrm>
          <a:prstGeom prst="rect">
            <a:avLst/>
          </a:prstGeom>
          <a:ln w="0">
            <a:noFill/>
          </a:ln>
        </p:spPr>
      </p:pic>
      <p:sp>
        <p:nvSpPr>
          <p:cNvPr id="20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 name="PlaceHolder 2"/>
          <p:cNvSpPr>
            <a:spLocks noGrp="1"/>
          </p:cNvSpPr>
          <p:nvPr>
            <p:ph type="ftr" idx="11"/>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04" name="PlaceHolder 3"/>
          <p:cNvSpPr>
            <a:spLocks noGrp="1"/>
          </p:cNvSpPr>
          <p:nvPr>
            <p:ph type="sldNum" idx="12"/>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E864A451-2BAA-40F8-B950-38034C8282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4" descr="c14l01_header"/>
          <p:cNvPicPr/>
          <p:nvPr/>
        </p:nvPicPr>
        <p:blipFill>
          <a:blip r:embed="rId2"/>
          <a:stretch/>
        </p:blipFill>
        <p:spPr>
          <a:xfrm>
            <a:off x="0" y="0"/>
            <a:ext cx="9144000" cy="1387440"/>
          </a:xfrm>
          <a:prstGeom prst="rect">
            <a:avLst/>
          </a:prstGeom>
          <a:ln w="0">
            <a:noFill/>
          </a:ln>
        </p:spPr>
      </p:pic>
      <p:sp>
        <p:nvSpPr>
          <p:cNvPr id="24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3" name="PlaceHolder 2"/>
          <p:cNvSpPr>
            <a:spLocks noGrp="1"/>
          </p:cNvSpPr>
          <p:nvPr>
            <p:ph type="ftr" idx="13"/>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44" name="PlaceHolder 3"/>
          <p:cNvSpPr>
            <a:spLocks noGrp="1"/>
          </p:cNvSpPr>
          <p:nvPr>
            <p:ph type="sldNum" idx="14"/>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5773381E-2433-4D3E-B3CE-D0270846F9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4" descr="c14l01_header"/>
          <p:cNvPicPr/>
          <p:nvPr/>
        </p:nvPicPr>
        <p:blipFill>
          <a:blip r:embed="rId2"/>
          <a:stretch/>
        </p:blipFill>
        <p:spPr>
          <a:xfrm>
            <a:off x="0" y="0"/>
            <a:ext cx="9144000" cy="1387440"/>
          </a:xfrm>
          <a:prstGeom prst="rect">
            <a:avLst/>
          </a:prstGeom>
          <a:ln w="0">
            <a:noFill/>
          </a:ln>
        </p:spPr>
      </p:pic>
      <p:sp>
        <p:nvSpPr>
          <p:cNvPr id="28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3" name="PlaceHolder 2"/>
          <p:cNvSpPr>
            <a:spLocks noGrp="1"/>
          </p:cNvSpPr>
          <p:nvPr>
            <p:ph type="ftr" idx="15"/>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84" name="PlaceHolder 3"/>
          <p:cNvSpPr>
            <a:spLocks noGrp="1"/>
          </p:cNvSpPr>
          <p:nvPr>
            <p:ph type="sldNum" idx="16"/>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F32F4892-EBFB-4E2C-8403-C9657DEF9A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14" descr="c14l01_header"/>
          <p:cNvPicPr/>
          <p:nvPr/>
        </p:nvPicPr>
        <p:blipFill>
          <a:blip r:embed="rId2"/>
          <a:stretch/>
        </p:blipFill>
        <p:spPr>
          <a:xfrm>
            <a:off x="0" y="0"/>
            <a:ext cx="9144000" cy="1387440"/>
          </a:xfrm>
          <a:prstGeom prst="rect">
            <a:avLst/>
          </a:prstGeom>
          <a:ln w="0">
            <a:noFill/>
          </a:ln>
        </p:spPr>
      </p:pic>
      <p:sp>
        <p:nvSpPr>
          <p:cNvPr id="32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3" name="PlaceHolder 2"/>
          <p:cNvSpPr>
            <a:spLocks noGrp="1"/>
          </p:cNvSpPr>
          <p:nvPr>
            <p:ph type="ftr" idx="17"/>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324" name="PlaceHolder 3"/>
          <p:cNvSpPr>
            <a:spLocks noGrp="1"/>
          </p:cNvSpPr>
          <p:nvPr>
            <p:ph type="sldNum" idx="18"/>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8A66CD0F-492E-4617-A1E0-9B3672262C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489"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FF35E6A1-1656-4C9D-B38C-ED4788C0F15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0" name="PlaceHolder 1"/>
          <p:cNvSpPr>
            <a:spLocks noGrp="1"/>
          </p:cNvSpPr>
          <p:nvPr>
            <p:ph/>
          </p:nvPr>
        </p:nvSpPr>
        <p:spPr>
          <a:xfrm>
            <a:off x="682560" y="1622520"/>
            <a:ext cx="7826400" cy="4092480"/>
          </a:xfrm>
          <a:prstGeom prst="rect">
            <a:avLst/>
          </a:prstGeom>
          <a:noFill/>
          <a:ln w="0">
            <a:noFill/>
          </a:ln>
        </p:spPr>
        <p:txBody>
          <a:bodyPr anchor="t">
            <a:normAutofit/>
          </a:bodyPr>
          <a:p>
            <a:pPr indent="17146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Lección 13</a:t>
            </a:r>
            <a:r>
              <a:rPr b="0" lang="en-US" sz="2800" spc="-1" strike="noStrike">
                <a:solidFill>
                  <a:srgbClr val="000000"/>
                </a:solidFill>
                <a:latin typeface="Arial"/>
              </a:rPr>
              <a:t>, you learned that the subjunctive is used in adverbial clauses after certain conjunctions. You will now learn how the subjunctive can be used in adjective clauses to express that the existence of someone or something is uncertain or indefinite.</a:t>
            </a:r>
            <a:endParaRPr b="0" lang="en-US" sz="2800" spc="-1" strike="noStrike">
              <a:solidFill>
                <a:srgbClr val="000000"/>
              </a:solidFill>
              <a:latin typeface="Arial"/>
            </a:endParaRPr>
          </a:p>
        </p:txBody>
      </p:sp>
      <p:pic>
        <p:nvPicPr>
          <p:cNvPr id="491" name="Picture 3" descr="anteTodo"/>
          <p:cNvPicPr/>
          <p:nvPr/>
        </p:nvPicPr>
        <p:blipFill>
          <a:blip r:embed="rId1"/>
          <a:stretch/>
        </p:blipFill>
        <p:spPr>
          <a:xfrm>
            <a:off x="736560" y="1538280"/>
            <a:ext cx="1676520" cy="563400"/>
          </a:xfrm>
          <a:prstGeom prst="rect">
            <a:avLst/>
          </a:prstGeom>
          <a:ln w="0">
            <a:noFill/>
          </a:ln>
        </p:spPr>
      </p:pic>
      <p:pic>
        <p:nvPicPr>
          <p:cNvPr id="492" name="Picture 16" descr="c14l01_p486_01"/>
          <p:cNvPicPr/>
          <p:nvPr/>
        </p:nvPicPr>
        <p:blipFill>
          <a:blip r:embed="rId2"/>
          <a:stretch/>
        </p:blipFill>
        <p:spPr>
          <a:xfrm>
            <a:off x="684360" y="4272120"/>
            <a:ext cx="7773840" cy="220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494"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F181A5B2-F403-416D-892E-E0A39A5A20AE}"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5" name="PlaceHolder 1"/>
          <p:cNvSpPr>
            <a:spLocks noGrp="1"/>
          </p:cNvSpPr>
          <p:nvPr>
            <p:ph/>
          </p:nvPr>
        </p:nvSpPr>
        <p:spPr>
          <a:xfrm>
            <a:off x="685440" y="1600200"/>
            <a:ext cx="782316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used in an adjective </a:t>
            </a:r>
            <a:br>
              <a:rPr sz="2800"/>
            </a:br>
            <a:r>
              <a:rPr b="0" lang="en-US" sz="2800" spc="-1" strike="noStrike">
                <a:solidFill>
                  <a:srgbClr val="000000"/>
                </a:solidFill>
                <a:latin typeface="Arial"/>
              </a:rPr>
              <a:t>(or subordinate) clause that refers to a person, place, thing, or idea that either does not exist or whose existence is uncertain or indefinite. There are differences in meaning between statements using the indicative and those using the subjun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1"/>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497" name="Slide Number Placeholder 2"/>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36358F54-348D-4D09-B7C9-7456AAE766A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98" name="Picture 3" descr="c14l01_p486_02"/>
          <p:cNvPicPr/>
          <p:nvPr/>
        </p:nvPicPr>
        <p:blipFill>
          <a:blip r:embed="rId1"/>
          <a:stretch/>
        </p:blipFill>
        <p:spPr>
          <a:xfrm>
            <a:off x="787320" y="1600200"/>
            <a:ext cx="7721640" cy="41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00"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E23730B8-0ECE-4B79-9B59-B46270A3EA45}"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1"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a:t>
            </a:r>
            <a:r>
              <a:rPr b="0" lang="en-US" sz="2800" spc="-1" strike="noStrike">
                <a:solidFill>
                  <a:srgbClr val="000000"/>
                </a:solidFill>
                <a:latin typeface="Arial"/>
              </a:rPr>
              <a:t> Adjective clauses are subordinate clauses that modify a noun or pronoun in the main clause of a sentence. That noun or pronoun is called the </a:t>
            </a:r>
            <a:r>
              <a:rPr b="0" i="1" lang="en-US" sz="2800" spc="-1" strike="noStrike">
                <a:solidFill>
                  <a:srgbClr val="000000"/>
                </a:solidFill>
                <a:latin typeface="Arial"/>
              </a:rPr>
              <a:t>anteceden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03"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21932E7F-E1C5-40EB-9F70-8CE7D949062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djective clause refers to a person, place, thing, or idea that is clearly known, certain, or definite, the indicative is used.</a:t>
            </a:r>
            <a:endParaRPr b="0" lang="en-US" sz="2800" spc="-1" strike="noStrike">
              <a:solidFill>
                <a:srgbClr val="000000"/>
              </a:solidFill>
              <a:latin typeface="Arial"/>
            </a:endParaRPr>
          </a:p>
        </p:txBody>
      </p:sp>
      <p:pic>
        <p:nvPicPr>
          <p:cNvPr id="505" name="Picture 3" descr="c14l01_p486_03"/>
          <p:cNvPicPr/>
          <p:nvPr/>
        </p:nvPicPr>
        <p:blipFill>
          <a:blip r:embed="rId1"/>
          <a:stretch/>
        </p:blipFill>
        <p:spPr>
          <a:xfrm>
            <a:off x="914400" y="3141720"/>
            <a:ext cx="731520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07"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E910E37C-84C1-4F5F-BE5C-C8D12A54F5F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onal </a:t>
            </a:r>
            <a:r>
              <a:rPr b="1" lang="en-US" sz="2800" spc="-1" strike="noStrike">
                <a:solidFill>
                  <a:srgbClr val="000000"/>
                </a:solidFill>
                <a:latin typeface="Arial"/>
              </a:rPr>
              <a:t>a </a:t>
            </a:r>
            <a:r>
              <a:rPr b="0" lang="en-US" sz="2800" spc="-1" strike="noStrike">
                <a:solidFill>
                  <a:srgbClr val="000000"/>
                </a:solidFill>
                <a:latin typeface="Arial"/>
              </a:rPr>
              <a:t>is not used with direct objects that are hypothetical people. However, as you learned in </a:t>
            </a:r>
            <a:r>
              <a:rPr b="1" lang="en-US" sz="2800" spc="-1" strike="noStrike">
                <a:solidFill>
                  <a:srgbClr val="000000"/>
                </a:solidFill>
                <a:latin typeface="Arial"/>
              </a:rPr>
              <a:t>Lección 7</a:t>
            </a:r>
            <a:r>
              <a:rPr b="0" lang="en-US" sz="2800" spc="-1" strike="noStrike">
                <a:solidFill>
                  <a:srgbClr val="000000"/>
                </a:solidFill>
                <a:latin typeface="Arial"/>
              </a:rPr>
              <a:t>, </a:t>
            </a:r>
            <a:r>
              <a:rPr b="1" lang="en-US" sz="2800" spc="-1" strike="noStrike">
                <a:solidFill>
                  <a:srgbClr val="000000"/>
                </a:solidFill>
                <a:latin typeface="Arial"/>
              </a:rPr>
              <a:t>alguien </a:t>
            </a:r>
            <a:r>
              <a:rPr b="0" lang="en-US" sz="2800" spc="-1" strike="noStrike">
                <a:solidFill>
                  <a:srgbClr val="000000"/>
                </a:solidFill>
                <a:latin typeface="Arial"/>
              </a:rPr>
              <a:t>and </a:t>
            </a:r>
            <a:r>
              <a:rPr b="1" lang="en-US" sz="2800" spc="-1" strike="noStrike">
                <a:solidFill>
                  <a:srgbClr val="000000"/>
                </a:solidFill>
                <a:latin typeface="Arial"/>
              </a:rPr>
              <a:t>nadie </a:t>
            </a:r>
            <a:r>
              <a:rPr b="0" lang="en-US" sz="2800" spc="-1" strike="noStrike">
                <a:solidFill>
                  <a:srgbClr val="000000"/>
                </a:solidFill>
                <a:latin typeface="Arial"/>
              </a:rPr>
              <a:t>are always preceded by the personal </a:t>
            </a:r>
            <a:r>
              <a:rPr b="1" lang="en-US" sz="2800" spc="-1" strike="noStrike">
                <a:solidFill>
                  <a:srgbClr val="000000"/>
                </a:solidFill>
                <a:latin typeface="Arial"/>
              </a:rPr>
              <a:t>a </a:t>
            </a:r>
            <a:r>
              <a:rPr b="0" lang="en-US" sz="2800" spc="-1" strike="noStrike">
                <a:solidFill>
                  <a:srgbClr val="000000"/>
                </a:solidFill>
                <a:latin typeface="Arial"/>
              </a:rPr>
              <a:t>when they function as direct objects.</a:t>
            </a:r>
            <a:endParaRPr b="0" lang="en-US" sz="2800" spc="-1" strike="noStrike">
              <a:solidFill>
                <a:srgbClr val="000000"/>
              </a:solidFill>
              <a:latin typeface="Arial"/>
            </a:endParaRPr>
          </a:p>
        </p:txBody>
      </p:sp>
      <p:pic>
        <p:nvPicPr>
          <p:cNvPr id="509" name="Picture 3" descr="c14l01_p487_01"/>
          <p:cNvPicPr/>
          <p:nvPr/>
        </p:nvPicPr>
        <p:blipFill>
          <a:blip r:embed="rId1"/>
          <a:stretch/>
        </p:blipFill>
        <p:spPr>
          <a:xfrm>
            <a:off x="1060560" y="3821040"/>
            <a:ext cx="7315200" cy="23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11"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E30E3DEE-EE0A-4C2B-948A-618A440E4FB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2"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commonly used in questions with adjective clauses when the speaker is trying to find out information about which he or she is uncertain. However, if the person who responds to the question knows the information, the indicative is used. </a:t>
            </a:r>
            <a:endParaRPr b="0" lang="en-US" sz="2800" spc="-1" strike="noStrike">
              <a:solidFill>
                <a:srgbClr val="000000"/>
              </a:solidFill>
              <a:latin typeface="Arial"/>
            </a:endParaRPr>
          </a:p>
        </p:txBody>
      </p:sp>
      <p:pic>
        <p:nvPicPr>
          <p:cNvPr id="513" name="Picture 3" descr="c14l01_p487_02"/>
          <p:cNvPicPr/>
          <p:nvPr/>
        </p:nvPicPr>
        <p:blipFill>
          <a:blip r:embed="rId1"/>
          <a:stretch/>
        </p:blipFill>
        <p:spPr>
          <a:xfrm>
            <a:off x="914400" y="4457880"/>
            <a:ext cx="731520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15"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E2C7AAE5-25FA-4536-8C84-ED7966AF6BE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16" name="Picture 4" descr="c14l01_p487_04"/>
          <p:cNvPicPr/>
          <p:nvPr/>
        </p:nvPicPr>
        <p:blipFill>
          <a:blip r:embed="rId1"/>
          <a:stretch/>
        </p:blipFill>
        <p:spPr>
          <a:xfrm>
            <a:off x="2400480" y="4137120"/>
            <a:ext cx="4343400" cy="2340000"/>
          </a:xfrm>
          <a:prstGeom prst="rect">
            <a:avLst/>
          </a:prstGeom>
          <a:ln w="0">
            <a:noFill/>
          </a:ln>
        </p:spPr>
      </p:pic>
      <p:sp>
        <p:nvSpPr>
          <p:cNvPr id="517" name="PlaceHolder 1"/>
          <p:cNvSpPr>
            <a:spLocks noGrp="1"/>
          </p:cNvSpPr>
          <p:nvPr>
            <p:ph/>
          </p:nvPr>
        </p:nvSpPr>
        <p:spPr>
          <a:xfrm>
            <a:off x="685800" y="1600200"/>
            <a:ext cx="8074080" cy="4114800"/>
          </a:xfrm>
          <a:prstGeom prst="rect">
            <a:avLst/>
          </a:prstGeom>
          <a:noFill/>
          <a:ln w="0">
            <a:noFill/>
          </a:ln>
        </p:spPr>
        <p:txBody>
          <a:bodyPr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ención! </a:t>
            </a:r>
            <a:r>
              <a:rPr b="0" lang="en-US" sz="2400" spc="-1" strike="noStrike">
                <a:solidFill>
                  <a:srgbClr val="000000"/>
                </a:solidFill>
                <a:latin typeface="Arial"/>
              </a:rPr>
              <a:t>Here are some verbs which are commonly followed by adjective clauses in the subjunctive:</a:t>
            </a:r>
            <a:endParaRPr b="0" lang="en-US" sz="2400" spc="-1" strike="noStrike">
              <a:solidFill>
                <a:srgbClr val="000000"/>
              </a:solidFill>
              <a:latin typeface="Arial"/>
            </a:endParaRPr>
          </a:p>
        </p:txBody>
      </p:sp>
      <p:pic>
        <p:nvPicPr>
          <p:cNvPr id="518" name="Picture 3" descr="c14l01_p487_03"/>
          <p:cNvPicPr/>
          <p:nvPr/>
        </p:nvPicPr>
        <p:blipFill>
          <a:blip r:embed="rId2"/>
          <a:stretch/>
        </p:blipFill>
        <p:spPr>
          <a:xfrm>
            <a:off x="1521000" y="2541600"/>
            <a:ext cx="6100560" cy="154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intentalo"/>
          <p:cNvPicPr/>
          <p:nvPr/>
        </p:nvPicPr>
        <p:blipFill>
          <a:blip r:embed="rId1"/>
          <a:stretch/>
        </p:blipFill>
        <p:spPr>
          <a:xfrm>
            <a:off x="455760" y="1600200"/>
            <a:ext cx="2438280" cy="627120"/>
          </a:xfrm>
          <a:prstGeom prst="rect">
            <a:avLst/>
          </a:prstGeom>
          <a:ln w="0">
            <a:noFill/>
          </a:ln>
        </p:spPr>
      </p:pic>
      <p:graphicFrame>
        <p:nvGraphicFramePr>
          <p:cNvPr id="520" name=""/>
          <p:cNvGraphicFramePr/>
          <p:nvPr/>
        </p:nvGraphicFramePr>
        <p:xfrm>
          <a:off x="442800" y="2313000"/>
          <a:ext cx="8258400" cy="4170240"/>
        </p:xfrm>
        <a:graphic>
          <a:graphicData uri="http://schemas.openxmlformats.org/drawingml/2006/table">
            <a:tbl>
              <a:tblPr/>
              <a:tblGrid>
                <a:gridCol w="8258400"/>
              </a:tblGrid>
              <a:tr h="1097640">
                <a:tc>
                  <a:txBody>
                    <a:bodyPr lIns="182880" rIns="182880" tIns="182880" bIns="1828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oge entre el subjuntivo y el indicativo para completar cada oración.</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087720">
                <a:tc>
                  <a:txBody>
                    <a:bodyPr lIns="182880" rIns="182880" tIns="182880" bIns="182880" anchor="t">
                      <a:noAutofit/>
                    </a:bodyPr>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cesito una persona que _____ (puede/pueda) cantar bien.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Buscamos a alguien que _____ (tiene/tenga) paciencia.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ay restaurantes aquí que _____ (sirven/sirvan) comida japonesa?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ngo una amiga que _____ (saca/saque) fotografías muy bonitas.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Hay una carnicería que _____ (está/esté) cerca de aquí.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No vemos ningún apartamento que nos _____  (interesa/interese).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onozco a un estudiante que _____ (come/coma) hamburguesas todos </a:t>
                      </a:r>
                      <a:br>
                        <a:rPr sz="1800"/>
                      </a:br>
                      <a:r>
                        <a:rPr b="0" lang="en-US" sz="1800" spc="-1" strike="noStrike">
                          <a:solidFill>
                            <a:srgbClr val="000000"/>
                          </a:solidFill>
                          <a:latin typeface="Arial"/>
                        </a:rPr>
                        <a:t>los días. </a:t>
                      </a:r>
                      <a:endParaRPr b="0" lang="en-US" sz="1800" spc="-1" strike="noStrike">
                        <a:solidFill>
                          <a:srgbClr val="000000"/>
                        </a:solidFill>
                        <a:latin typeface="Arial"/>
                      </a:endParaRPr>
                    </a:p>
                    <a:p>
                      <a:pPr marL="231840" indent="-231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ay alguien que _____ (dice/diga) la verdad?</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521" name="Text Box 45"/>
          <p:cNvSpPr/>
          <p:nvPr/>
        </p:nvSpPr>
        <p:spPr>
          <a:xfrm>
            <a:off x="3503520" y="3471840"/>
            <a:ext cx="104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Comic Sans MS"/>
              </a:rPr>
              <a:t>pue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WallesFamily</cp:lastModifiedBy>
  <dcterms:modified xsi:type="dcterms:W3CDTF">2010-07-10T17:44:14Z</dcterms:modified>
  <cp:revision>79</cp:revision>
  <dc:subject/>
  <dc:title>PowerPoint Presentation</dc:title>
</cp:coreProperties>
</file>